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EDB6-75CE-4B4E-AB0E-2BEDB68C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8A3-FC73-4684-8B43-BCB829E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3FC3F-1D42-4D74-95FF-66043E6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2EE1A-F124-49DE-94BE-FAECC6C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FF8B2-C976-4C02-A028-354EB6A1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81D94-7F57-4036-9684-6866128E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C1EF0-0132-4B10-BD2A-94C8F75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C5060-D852-469F-9D82-161E0A3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53F4F-0F6C-4770-999B-8F5E47BF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A2063-7264-436C-9D02-38530AC6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3029-DC57-4A1C-966C-E65085D2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64DE9-5E6C-466C-9431-91BDDFEB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CB8-A9AB-4ED5-941A-9EB465BF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41B37-E302-427F-980E-76355E19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BAB2D-E930-49B9-A218-B316FA4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E79F-ABC5-4BAC-A0D5-C95F8A1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B8054-EC73-44AE-AA77-812E86FE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868F1-CA5F-4B6F-B959-967E3C1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2C0EC-752C-4896-8033-6FBB0D24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9DF11-D6C3-427D-8FD1-2B760097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10EC1-2313-4EF0-A86D-F8295EB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6434E-DA7B-4055-8D56-8D592551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60BCB-E3FA-4EF8-9B20-7367FB0B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3B9-E22A-4696-8681-BAA2A8AA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29FAB-438E-48E7-BCB6-FAAC514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E5086-F0F7-401C-8875-5DEA690D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2B923-3101-45A9-AD0D-8B08A030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F1CA-893E-462C-AA22-052259A3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3679-1883-41C4-8C46-46DE9CE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E928F-0F4C-4A23-97A4-CF6A618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D6D81-4AEE-497F-8F21-C3E2530C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7175F-6D80-426F-81B1-0B7464D0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2569C-7C74-405B-825E-65F3817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3DB7-E907-4B25-A587-F3E7421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BB9E-19B3-466C-962C-862A6E6A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5AB9D-3599-4EA3-B2EB-8A0C8C60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2BCE4-B080-404F-9D47-43504D9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80A5F-0563-4BD4-8A87-D7A900EB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765BD-E60B-4DAD-A149-482E6569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830A6-84E7-409C-ADD9-A6D7B2F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B5B27-DAC5-4AFD-BB68-7431A51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0F30D-325D-4181-A34A-6DB226E9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80FB1-26EC-4E16-818A-25F7679A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12F76-9804-4D72-9C55-58D024CB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13A35-73D7-4FA6-92E7-4AB36E8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674-45F1-4F71-91E7-4815550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7C047-28E9-46D5-AF52-8DE87DB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16DD5-6D3D-4E20-8F0B-719D661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3402B-0904-40EF-B2FF-9C10EA40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6959E-B409-4E3A-B0B7-0A9721DB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4BA33-57A7-462A-8CA8-00A9659E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D4F64-0798-48B7-9E43-AE339296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99D68-B843-4F72-A478-04C44F9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FDB04-AC4F-41E9-9B76-96F4338B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189A1-3C36-4E4C-95EE-6076A925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F7A10-FEE8-4EFD-9B3A-1C690125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4CCC-07D2-4136-9401-A9E0CF8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1F0EA-71B8-4036-8A37-00B6463C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3A8CC-2C1D-48EB-B41E-9026B64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68E81-75D1-4E7C-BFFC-8BCD762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6F753-9D3E-4986-86E1-A49DBF4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920C-2935-40D1-9865-8751C80F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974FB-6F27-4EB7-B36A-3723138A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01DAD-14EF-4158-8254-AB0EEEAD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5C7F9-69E9-4B8A-ADD4-CE688A5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883D6-6F53-4B90-ABD2-C2E804F5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A1CBC-78D9-459D-B7BF-4C96D269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EE9-190B-4AAE-9C05-A607CCE0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B580A-39A6-47CC-8DA6-A1D3335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B075B-398D-4370-B402-5E28523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BD58B-271C-4A97-B440-AA741F6B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098B5-633B-4FDF-9509-11DFC84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414EA-7EC2-41FF-BFBB-60F5EE4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71589-FFAB-4258-8D6E-88E0EF7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1A8EA-0E56-451A-9C42-775C51C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FC392-3375-4A9C-87E1-37A1D38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CF6FD-6D74-4070-AC31-099930E0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A986D-755E-4201-9042-0E5FBEE2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012C-13B1-473A-9D2E-06532AB2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E331E-1654-46FF-B653-A81C48E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49B2F-49CF-4B7D-BBA2-C968C80E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FE334-E060-43C2-B511-131BCB1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C2D8B-1F8B-4BD9-826E-A433F81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059AC-BA61-47CD-A8E0-DA710C27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78144-BD2A-4DC3-98F1-1BB81DBB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50FC8-CA4A-4A5B-8A04-2C11124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DA3A2-6743-4CB8-A9CB-F200438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CF61E-DC9E-4179-942D-7D5D471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9AC14-8E5A-49A0-B590-2F788114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388D-C9D8-4426-BF83-CDAF798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26147-1AD0-4F2D-8DB2-F3DA15C6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BD31B6-3C0E-4D26-9622-F442F8B4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ABC55-2E7F-4A95-B1E2-28D0151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232F7-F6E6-46FC-A8F5-5CF7B8F9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8D2FF-4336-4E24-8A23-A482F43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AF7A1-A6B3-4805-968D-441098FF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5D329-FF5A-482D-B816-D5C5C078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EB549-7397-4846-9710-0192BFA7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46CAB5-C918-482C-9D27-9EEE9FFE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DF9D3-3DBF-4332-B395-9D38D23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E2B-9FB7-4513-A10B-EE3645A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C0805-2AB5-404C-A6C2-3E317BD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970F7-D782-47D2-841A-21D80932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F24CB-86D9-415D-B95C-A4A16BE3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DEDE4-3531-4DED-B058-F93AE4DA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C6AFB-8105-469E-9A58-1977F444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91DA2-0CAD-48CD-8260-5780F8F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B306C-633B-4943-BBF6-BB62AEEF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356A9-F133-42DB-B740-EF6F5FC7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8C688-83F9-495D-B5A9-028F3B45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CF2BA-CE10-4F4D-AFDC-5574BA44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01C-B394-4D6E-9188-A81BC4F4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E81C-8C1D-4417-9656-E2DDDBF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E8D2B-A793-4AA4-A979-C809F77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51C01E-FBF6-4133-B797-3365306A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1141BB-5CA7-48BA-8820-C4867B7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7773A-A6B1-4589-A808-F66A9C33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49509-7605-4D33-9305-EF1A723D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42CEF-DD0A-47C0-86E5-E58FC435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E7BC6-EA91-4C34-85D3-A61D7BA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B1C27-157D-44E2-AEF7-82ABB433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CA9D1-31E2-4FFE-92C1-78528A8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538E59-7916-4A97-BFD0-BF8CF28C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151-00D4-4476-AE6A-442F758C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FF0C2-DEEE-4851-9765-AAA87E34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B7210-7DE4-4B29-AC06-FC87916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BDAC5-94C1-44C0-8BEA-CC2C9F0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A1642-CF11-413D-B845-90A8155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7F69A-0649-46FF-BF8F-6B0D9F69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C0F690-0F34-4C64-87D3-F7DA507D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67512-DFA8-4231-B1E3-2929C9B3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B446B4-43EF-44B9-B02F-8EC20A8E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E7EEA-8F8D-4725-92C2-43576A3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9F852-9E5A-4E20-9778-B619474B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13F-18B4-4CE7-9B6B-6D921C27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92BC4-8961-4FF8-B4E8-D37424C4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16F41-3F9F-4544-A80E-3F3336AB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00A1D-C3D7-48D5-8003-E9B48D26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301C2-6B89-4F3F-953A-5C3DE2B7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08D57-2223-4BCA-A01E-8FC319B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93865-6556-4ADA-A390-789ED5A7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F6E99-383C-4C32-B6D9-8949DF61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BB0C6-5B1F-4F3F-B08D-3A5CEEB1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7BA8F-83A8-4E9A-A885-4EAAEE61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FB96D-42D5-4AEA-AA2E-280E2668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980E-35EA-475E-AB3E-1981CE26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BE59C6-80AC-474A-8B3F-D78EAB35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30BB3-46B3-4F43-AB9A-3668CF0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BBFB7C-A5CB-4865-BFA8-05B7209D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036DF-2777-49DE-B4AF-D894959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678C22-5279-4447-82E2-47341AA1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B41EC-F7DE-4E32-AEA7-87127A4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C6F06-587B-407F-920B-85A99D3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ABCBD6-D73E-4389-8456-D8E1E6D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ADF45-534A-4F05-8078-FC0340DD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CEBDF2-0342-4C65-B8BD-2AC6752C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34EE-BEAF-48C5-8F2E-DBF47147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83491-AB10-4CA9-AF16-DE047EB4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E48DE-5CDA-4F79-BE56-79A0382E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BD5A6-B9CF-4EDE-9B31-0864805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CC6F4-0937-4B49-9C66-73B29F1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BBFC1-AA34-4B82-87AF-D0C8D27A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A16A3-9AA7-440C-B026-0F9D969A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1B96C4-CC9B-431B-BCE5-E9F34E0B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203CB-14D5-49B9-B53D-C6C2774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2CAC6-F481-42D3-B6D3-25BEA980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549DB-8E3D-4961-8DCF-A070205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4162A-2635-43B5-BE2D-919424A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811DE-3F4E-44F6-9BAC-8B6D53C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1F4DD-4B63-4708-9A2C-DC29FED0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B8A5F-6480-4233-9BCA-270ED8ED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E7FD4-0B51-44EF-9D86-51E0BFAE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01676F-8C17-4A93-98CC-458296A0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70FA8-DDC6-41D3-8405-EA9F830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0D73C-76B0-4D7B-BFFC-AC607C41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BD0BF7-E3A9-4729-873F-42D8B0E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EA0AE5-8CE5-4C26-B4B1-2DAC4E8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6876E1-4094-4D4C-BB53-27F8C54B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C4BB4-1A7A-4815-B7C2-9C9F9D6C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B34AA6-800B-4DB3-A5A1-7B630D5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06AA4-DC66-495B-B530-0837BC4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4E46D7-F8E0-4EEC-9EBD-8AB73C74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AC40CC-D11C-4313-A8FC-D1E8EA24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3E23C8-0B17-48A7-B7F3-437BD89B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DFB0E-00A3-438C-8DE7-01E355BD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EA0EA-F314-4425-A55E-0058AF1E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E8DFB-67D7-486B-85AB-55200A6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6522F7-DC1A-4A1F-AAA4-7EB77010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809DC8-356A-4D5C-B6D2-0856A2F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3F70-ADBA-4999-A208-7A0FB028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42E9D6-A3D9-4782-AB06-9672156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F812AA-D377-47C0-AD8E-24F92AC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04B143-2054-43E0-921B-5D86B59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2F848-7703-49B4-89E3-EFE5A01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FBC6D-626D-4E0B-AF15-36995CB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C56D0-9429-4162-94FF-CD60CB62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306037-5224-4FBB-8CE5-7605570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FEBA-29FC-44DA-B305-7EE28A8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D3C0D-DAF5-4355-BB15-D435F29A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395-A7C5-4F5F-A68B-E8BB7C4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2D42-11DE-42F5-8B71-1C689753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096A-20B7-4157-B386-04C67C7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D41D-8A7D-4DFC-8DE6-E0A6BFF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3475-E240-4712-B7C9-163EFBCD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6E49C-4D49-43D0-916C-F6F8CCDA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21F5-D5F9-4FD9-B99D-6F18FB7F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4DE6-AD82-4BFF-81BC-345EFC87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9156-5787-40F7-B654-645DB8DD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67B0-710E-4792-BC27-AD0B397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E803-240B-4D61-B03E-8427E09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575-560E-4EE6-819D-500AAD6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70C9-A819-46BD-85AF-97BA9981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25B9-5BDA-4AD2-A16D-5941CDB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D9D3-0710-4836-BA56-4585F3D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D008-878B-49F8-A319-B040B7B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2692-90EF-4B2E-8F42-4AF16EA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5DDF-583B-4B49-BF76-EF2D8C22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B2254-816A-4960-974A-223AC982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1D24-AACE-46EA-B7FC-0BF155EE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196D3-EA7A-428A-A2C9-DDCB5A62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A07D-C98F-484E-8E45-543AD87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E65-9A87-430D-ABE9-841EC76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31F95-78EA-485D-ACA9-2EEAADEA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8A004-F54F-4C5D-ABC5-23BE3347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5874-5CB7-4A04-91DB-F3B64D9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0C34-4695-4BF8-97D2-B0C2871F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BA15-FC86-4444-9C1D-2802C94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9E05B-A9E9-4916-8DDE-2525EE8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D8EC8-BDC0-46BD-8044-0DB92EB7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72D8-4239-47B0-82C3-3A98991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F644F-9E92-4B73-A6DC-1D700D0C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464A-F262-4B48-BCEB-C9DE589B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4F6-ED3E-4E34-BCDE-8CFD93AD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483B-9A02-4A44-A171-C175AC55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9276-29F1-4FE0-A741-D299293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DDB9-E1A7-4638-B7E3-D55140E4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B37B-7AA9-440A-B407-5FF2DB2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FEB1C-6C47-4FF1-BB17-E1719EB8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E5DEC-5EFF-4BC3-8DF6-FC493976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476C-99A1-499B-85CA-813CBB50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AD83F-7D59-4FF6-8081-F3D3834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220EF-94ED-4816-86D2-DF662A6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4015-D28C-43E2-99F6-61E01DA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83E-E5E1-460B-8B5B-BEB03BA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8A30-F361-4DDD-8CF5-854FE6E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18B4-4D46-4793-B97C-A6EF9B9A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EA3B7-A489-4651-BAC3-A7D2014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615F7-AD3C-42FC-A6B4-104B3B1B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D584-9FB1-4F49-A86C-036D2917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77C3-E81D-4A64-84EA-E3E8EEB0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EF53-3B31-4BC8-8FB7-2AAD738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56ACE-EB19-4863-8099-F6678708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C9784-7093-4E37-8985-A490A866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EBF1-6D04-4EEF-A6C7-1676CE6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299-C67E-47D6-8374-B60B96F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022AA-2207-43DE-B8B2-89063DC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5AAF-707F-478D-9C19-214E99A8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82EF-AA0B-4519-99E2-2E1126F0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1DDA-4A49-4359-87D1-2CFBFD3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5B9E-C675-47AB-AA9F-0CDEBB11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BB77-48C5-4C3E-96A2-48EA2627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3476B-B28F-44DD-8635-79B68B4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F7B58-B586-45DB-A0C7-3D3F8E79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C46DA-0610-4B85-AAA6-0628F04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C855B-BC59-4920-AF16-252464D1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55B-4B73-4FBA-B977-B9DB01F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2FC0-1585-47B0-99D2-ECFADF4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73593-E282-4117-A91C-D47E4DA8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F3E01-C587-4347-B8FC-28C918F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87711-E8F9-4E90-9A11-3D3D8477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8B21-B74B-4711-A67C-B2FE69F7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044C5-080C-43B9-8E26-9956599B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22C3D-5361-4321-9F92-79DB70E8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2ED0F-FFA9-4ADB-8177-CD0CB549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A6BE0-571F-46B1-9948-13BB530C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B015-06B0-46AF-BE8B-1051FD8E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C2F-2309-4C48-BF7C-910D1D3D9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8BC8-FCFE-477B-A05A-CA1F2424A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210-705A-4C27-8B52-18D55C3592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C00F-AA2F-408E-9CED-D165930C2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CD94-817B-488C-9552-64F548405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2F9D-D530-479B-A636-7BBE36E98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CB9-759D-4264-91C2-0E1ACA6FF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D134-BF86-4399-9DD8-8352A2E76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6F7-467F-4EE7-B834-6F727BCF7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D94-2024-498A-9B7F-501A679F2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E602-22F1-4B07-8D18-541283B307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0472-078D-403E-91A5-50BF7E1BCC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215-3FC1-4ADF-9ADB-6C8B4EE43C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F13-3B14-492B-A5B0-83086A2F5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7D45-6A2B-44E9-B7F7-2E38EF265E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D43-6791-4B7C-8786-12F0B1AE47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1139-429B-4C0C-8868-FCDD90878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6F91-C6A6-46AE-BB14-CB37301867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EF0F-98A0-4BD7-ABA3-17E59BA9D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F6BB-6059-4291-86CD-BE70812838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862-0DD7-4C2D-A6FD-0EDD0DDD2C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564-A633-4852-85C3-9A13B338E1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20E-1823-4DCA-A84F-994CD611F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3B01-913F-4B87-AC6A-0D951D8E1F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511-1F38-47F3-A1D1-23BB0AE4F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409-4000-484A-B7C7-9E32BC111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6763-AD5D-46FA-B027-A0F5D6699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4A16-88C9-42DE-8070-9ED74169C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1221-1061-44D2-A602-3C85C9188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548-5195-4FA9-80A7-1DC4CA8E9B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EBBE-16D7-4654-B04C-F8E05AB10C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648-F3C9-42A8-985D-FE4F33A2A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CC59-0909-4C99-A406-700394031D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266-B7FC-40C1-8561-E8996451E1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D3B-A70F-4A9C-9FC1-CA829AB0B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2D39-2885-49F7-AA37-0B9CB0E4A8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4CB5-2B57-4948-ABC4-F8C816DD69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6204-08B6-45F8-803B-D489A53D4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C4A1-D379-448D-931F-7C6277D98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142D-4097-4041-A9CC-4BA9EF1FD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F4E-29D6-4C29-ACC3-57653EAC43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847-661F-4325-9242-C159C86A1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5680" y="3057480"/>
            <a:ext cx="89726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66600" y="1174680"/>
            <a:ext cx="9010800" cy="189072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" descr=""/>
          <p:cNvPicPr/>
          <p:nvPr/>
        </p:nvPicPr>
        <p:blipFill>
          <a:blip r:embed="rId2"/>
          <a:stretch/>
        </p:blipFill>
        <p:spPr>
          <a:xfrm>
            <a:off x="1176480" y="3579840"/>
            <a:ext cx="7019640" cy="22003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419640" y="2205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5724360" y="17002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7"/>
          <a:stretch/>
        </p:blipFill>
        <p:spPr>
          <a:xfrm>
            <a:off x="8632800" y="164304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8"/>
          <a:stretch/>
        </p:blipFill>
        <p:spPr>
          <a:xfrm>
            <a:off x="8445600" y="220500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9"/>
          <a:stretch/>
        </p:blipFill>
        <p:spPr>
          <a:xfrm>
            <a:off x="3132000" y="4076640"/>
            <a:ext cx="425520" cy="4478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10"/>
          <a:stretch/>
        </p:blipFill>
        <p:spPr>
          <a:xfrm>
            <a:off x="3132000" y="472428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11"/>
          <a:stretch/>
        </p:blipFill>
        <p:spPr>
          <a:xfrm>
            <a:off x="5435640" y="4149720"/>
            <a:ext cx="86508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2"/>
          <a:stretch/>
        </p:blipFill>
        <p:spPr>
          <a:xfrm>
            <a:off x="5292720" y="473868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6148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343240" cy="23716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615636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952800" y="31845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4643280" y="306864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332000" y="4221000"/>
            <a:ext cx="669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971640" y="4869000"/>
            <a:ext cx="6696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042920" y="5445000"/>
            <a:ext cx="669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23920" y="995400"/>
            <a:ext cx="8696160" cy="48672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7171" descr=""/>
          <p:cNvPicPr/>
          <p:nvPr/>
        </p:nvPicPr>
        <p:blipFill>
          <a:blip r:embed="rId3"/>
          <a:stretch/>
        </p:blipFill>
        <p:spPr>
          <a:xfrm>
            <a:off x="425520" y="1066680"/>
            <a:ext cx="2343240" cy="2371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4097160" y="2478240"/>
            <a:ext cx="360720" cy="2887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4773600" y="2406600"/>
            <a:ext cx="73332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6"/>
          <a:stretch/>
        </p:blipFill>
        <p:spPr>
          <a:xfrm>
            <a:off x="1332000" y="350028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7"/>
          <a:stretch/>
        </p:blipFill>
        <p:spPr>
          <a:xfrm>
            <a:off x="1116000" y="414972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8"/>
          <a:stretch/>
        </p:blipFill>
        <p:spPr>
          <a:xfrm>
            <a:off x="1042920" y="4797360"/>
            <a:ext cx="662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9"/>
          <a:stretch/>
        </p:blipFill>
        <p:spPr>
          <a:xfrm>
            <a:off x="971640" y="544500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176040" y="1628640"/>
            <a:ext cx="8791920" cy="3600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635280" y="3068640"/>
            <a:ext cx="525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564000" y="3716280"/>
            <a:ext cx="52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318960" y="865080"/>
            <a:ext cx="8382240" cy="5867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924360" y="98100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3851280" y="1628640"/>
            <a:ext cx="439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780000" y="2276640"/>
            <a:ext cx="43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211640" y="4221000"/>
            <a:ext cx="4392720" cy="1079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211640" y="5516640"/>
            <a:ext cx="439272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140360" y="6164280"/>
            <a:ext cx="43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85680" y="847800"/>
            <a:ext cx="8972640" cy="5162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909880"/>
            <a:ext cx="468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46814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468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581360"/>
            <a:ext cx="4681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62000" y="458640"/>
            <a:ext cx="8820000" cy="6239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6336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684360" y="6165720"/>
            <a:ext cx="633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880920" y="2152800"/>
            <a:ext cx="7382160" cy="25524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042920" y="2162160"/>
            <a:ext cx="669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669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66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3875040"/>
            <a:ext cx="6985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95120" y="109440"/>
            <a:ext cx="8753760" cy="6639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900000" y="335772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352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684360" y="4508640"/>
            <a:ext cx="352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539640" y="5070600"/>
            <a:ext cx="35290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7:5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